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FAE-C46F-4446-8F9C-54D057CC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D25-0223-4F05-92C0-A89608EE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B2F-227D-433E-BABC-27BEC5F8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DA5-AD51-4929-9B89-2AE2419E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0C2-476A-4F0C-A6FE-3792037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C93-5FE9-4B03-A159-A029D22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694-9BDD-4CFE-AA98-2324C86A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8E7-3747-49D5-BD02-19642871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079-97D4-459D-8FBE-8BE2107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DD4-3840-40B0-AFDE-DD22B26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D10-6D5B-41BE-B024-010B9ECE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AFD-1606-4442-877D-3D0BC5C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51B-1271-418B-86AF-3FF99E3AB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“Survival of the fitt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5-05-19T17:06:25Z</dcterms:modified>
  <cp:revision>50</cp:revision>
  <dc:subject/>
  <dc:title>Evolution Quiz</dc:title>
</cp:coreProperties>
</file>